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wmf" ContentType="image/x-wmf"/>
  <Override PartName="/ppt/media/image3.gif" ContentType="image/gif"/>
  <Override PartName="/ppt/media/image5.wmf" ContentType="image/x-wmf"/>
  <Override PartName="/ppt/media/image6.gif" ContentType="image/gif"/>
  <Override PartName="/ppt/media/image7.wmf" ContentType="image/x-wmf"/>
  <Override PartName="/ppt/media/image8.wmf" ContentType="image/x-wm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F53F-D38E-4C79-93FD-EA801C49D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41E3-7590-4A85-8432-71876BD5E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D520-1DC2-4FD5-BC2C-C91494BBA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A296-C4D9-4635-BDD0-24081EC48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2EA4-7758-4784-9B3E-DEAC795ED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6585-ABC0-4B54-BE6B-DDA5FE8A8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7902-3A13-4AD2-AE2A-E666B8093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7C68-0EA1-46AD-925A-8F072FB58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0DB3-2402-495E-8DEC-2F489C761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7A9B-F794-4FEE-88D3-63ABC08E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5083-88AC-499F-89D2-4710A356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74CB-4CE2-48B8-A410-34E4E6CD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52491-3624-498E-A794-903441DE70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92468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ction Verbs – They’re What You Do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rammar Grade 2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Symsonia Elementary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Pamela DeBernardi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066680" y="1905120"/>
            <a:ext cx="28195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can paddle a boa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3" descr="C:\WINDOWS\Application Data\Microsoft\Media Catalog\Downloaded Clips\cl5d\j0234678.gif"/>
          <p:cNvPicPr/>
          <p:nvPr/>
        </p:nvPicPr>
        <p:blipFill>
          <a:blip r:embed="rId1"/>
          <a:stretch/>
        </p:blipFill>
        <p:spPr>
          <a:xfrm>
            <a:off x="4419720" y="2895480"/>
            <a:ext cx="3886200" cy="2732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533520" y="685800"/>
            <a:ext cx="4572000" cy="22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can work at my comput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7" descr="C:\WINDOWS\Application Data\Microsoft\Media Catalog\Downloaded Clips\cl76\j0295184.gif"/>
          <p:cNvPicPr/>
          <p:nvPr/>
        </p:nvPicPr>
        <p:blipFill>
          <a:blip r:embed="rId1"/>
          <a:stretch/>
        </p:blipFill>
        <p:spPr>
          <a:xfrm>
            <a:off x="4114800" y="3090960"/>
            <a:ext cx="4038480" cy="2979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33160" y="1295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can throw a footbal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c:\Program Files\Common Files\Microsoft Shared\Clipart\cagcat50\pe01659_.wmf"/>
          <p:cNvPicPr/>
          <p:nvPr/>
        </p:nvPicPr>
        <p:blipFill>
          <a:blip r:embed="rId1"/>
          <a:stretch/>
        </p:blipFill>
        <p:spPr>
          <a:xfrm>
            <a:off x="4724280" y="1793880"/>
            <a:ext cx="3657600" cy="32511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609480" y="1219320"/>
            <a:ext cx="3962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can skate on the i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4" descr="C:\WINDOWS\Application Data\Microsoft\Media Catalog\Downloaded Clips\cl73\j0288940.gif"/>
          <p:cNvPicPr/>
          <p:nvPr/>
        </p:nvPicPr>
        <p:blipFill>
          <a:blip r:embed="rId1"/>
          <a:stretch/>
        </p:blipFill>
        <p:spPr>
          <a:xfrm>
            <a:off x="4648320" y="2286000"/>
            <a:ext cx="2619360" cy="2971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533160" y="1295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can talk to my frien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c:\Program Files\Common Files\Microsoft Shared\Clipart\cagcat50\bd07153_.wmf"/>
          <p:cNvPicPr/>
          <p:nvPr/>
        </p:nvPicPr>
        <p:blipFill>
          <a:blip r:embed="rId1"/>
          <a:stretch/>
        </p:blipFill>
        <p:spPr>
          <a:xfrm>
            <a:off x="5086440" y="1828800"/>
            <a:ext cx="3271680" cy="35812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33160" y="1295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can play beautiful musi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6" descr="c:\Program Files\Common Files\Microsoft Shared\Clipart\cagcat50\en00349_.wmf"/>
          <p:cNvPicPr/>
          <p:nvPr/>
        </p:nvPicPr>
        <p:blipFill>
          <a:blip r:embed="rId1"/>
          <a:stretch/>
        </p:blipFill>
        <p:spPr>
          <a:xfrm>
            <a:off x="4800600" y="14479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914400" y="1981080"/>
            <a:ext cx="3048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can jump very high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3" descr="C:\WINDOWS\Application Data\Microsoft\Media Catalog\Downloaded Clips\cl45\j0174011.gif"/>
          <p:cNvPicPr/>
          <p:nvPr/>
        </p:nvPicPr>
        <p:blipFill>
          <a:blip r:embed="rId1"/>
          <a:stretch/>
        </p:blipFill>
        <p:spPr>
          <a:xfrm>
            <a:off x="4572000" y="2819520"/>
            <a:ext cx="3376440" cy="3267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3160" y="1295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can dance gracefull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7" descr="c:\Program Files\Microsoft Office\Clipart\standard\stddir1\bd07078_.wmf"/>
          <p:cNvPicPr/>
          <p:nvPr/>
        </p:nvPicPr>
        <p:blipFill>
          <a:blip r:embed="rId1"/>
          <a:stretch/>
        </p:blipFill>
        <p:spPr>
          <a:xfrm>
            <a:off x="4724280" y="1371600"/>
            <a:ext cx="3583080" cy="37339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33160" y="1295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can read a great book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7" descr="c:\Program Files\Microsoft Office\Clipart\standard\stddir1\bd06804_.wmf"/>
          <p:cNvPicPr/>
          <p:nvPr/>
        </p:nvPicPr>
        <p:blipFill>
          <a:blip r:embed="rId1"/>
          <a:stretch/>
        </p:blipFill>
        <p:spPr>
          <a:xfrm>
            <a:off x="5181480" y="1447920"/>
            <a:ext cx="2857680" cy="33526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7T21:11:56Z</dcterms:created>
  <dc:creator>Graves</dc:creator>
  <dc:description/>
  <dc:language>en-US</dc:language>
  <cp:lastModifiedBy>teacher</cp:lastModifiedBy>
  <dcterms:modified xsi:type="dcterms:W3CDTF">2010-11-01T00:33:22Z</dcterms:modified>
  <cp:revision>4</cp:revision>
  <dc:subject/>
  <dc:title>        Action Verbs – They’re What You Do  Grammar Grade 2       Symsonia Elementary    Pamela DeBernardi                             </dc:title>
</cp:coreProperties>
</file>